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0383-4AB7-4503-A4C9-702A9B952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45C0-8C48-4B68-BF58-EC72B1541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C52-C472-43A2-A4B5-5DD5062B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83A-B32B-42DC-8819-FB71B05B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E7F-AB7B-444E-9BA0-C2BF1C79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7F9F-D4C0-4916-BD6A-9D36FAB3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4A5-D1CA-4F54-A971-C0742805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CAE-B64B-4A5A-90BB-9838CC7A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16C-4E54-4CDE-8E0E-045734DF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7181-A49C-4F8D-8FB3-B973D713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B25-69F8-485E-8BAB-AD8E3894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046-8B5A-4724-A4C4-3EAAE510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590-DC50-4A12-9321-09FB721A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CB11-BC1B-410E-94A6-49A92CF3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BF13-7230-4F2A-9E9E-D819BC490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5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trina Bela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Katrina Belna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trina Belang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trina Belang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atrina Belang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7150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ngel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2004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8600" y="3581280"/>
            <a:ext cx="1422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e llamo Katrina. Vivo en Astoria, Nueva York. Yo tengo quince años. No, tengo hermanos. Yo so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cioso y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teligen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609480" y="57150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76320" y="6324480"/>
            <a:ext cx="77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 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143000" y="56386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16200" y="3790800"/>
            <a:ext cx="3886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y de la ciudad de Astori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681280" y="3208320"/>
            <a:ext cx="425304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            Daph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y bien, gracias.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De donde ere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30 minutes ago   Octubre 21, de 2011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692440" y="253836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Buenas Tardes!!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¿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7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05040" y="4430880"/>
            <a:ext cx="42292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Ange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chico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2  minutes ago   Octubre 22, de 201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92440" y="5181480"/>
            <a:ext cx="42418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 Katr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a, Jennifer!!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e p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guesta:     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Commentario: 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 minute ago       Octubre 22, de 2011 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664000" y="6021360"/>
            <a:ext cx="4346280" cy="5317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Escribe algo…                                                                                                             Ange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ucho musica.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Te guesta: Commentario 5 sceonds ago            Octubre 22, de 201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6094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4" descr="428767_325455040829355_459195800_n.jpg"/>
          <p:cNvPicPr/>
          <p:nvPr/>
        </p:nvPicPr>
        <p:blipFill>
          <a:blip r:embed="rId1"/>
          <a:stretch/>
        </p:blipFill>
        <p:spPr>
          <a:xfrm>
            <a:off x="457200" y="457200"/>
            <a:ext cx="92088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2178000" y="3138480"/>
            <a:ext cx="380880" cy="50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96" name="Picture 60" descr=""/>
          <p:cNvPicPr/>
          <p:nvPr/>
        </p:nvPicPr>
        <p:blipFill>
          <a:blip r:embed="rId3"/>
          <a:stretch/>
        </p:blipFill>
        <p:spPr>
          <a:xfrm>
            <a:off x="2232000" y="2513160"/>
            <a:ext cx="257040" cy="534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2" descr=""/>
          <p:cNvPicPr/>
          <p:nvPr/>
        </p:nvPicPr>
        <p:blipFill>
          <a:blip r:embed="rId4"/>
          <a:stretch/>
        </p:blipFill>
        <p:spPr>
          <a:xfrm>
            <a:off x="2046240" y="3517920"/>
            <a:ext cx="646200" cy="927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0" descr=""/>
          <p:cNvPicPr/>
          <p:nvPr/>
        </p:nvPicPr>
        <p:blipFill>
          <a:blip r:embed="rId5"/>
          <a:stretch/>
        </p:blipFill>
        <p:spPr>
          <a:xfrm>
            <a:off x="2249640" y="5135400"/>
            <a:ext cx="25848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6"/>
          <a:stretch/>
        </p:blipFill>
        <p:spPr>
          <a:xfrm>
            <a:off x="2147760" y="4362480"/>
            <a:ext cx="387360" cy="51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"/>
          <p:cNvPicPr/>
          <p:nvPr/>
        </p:nvPicPr>
        <p:blipFill>
          <a:blip r:embed="rId7"/>
          <a:stretch/>
        </p:blipFill>
        <p:spPr>
          <a:xfrm>
            <a:off x="2146320" y="5946840"/>
            <a:ext cx="390600" cy="51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7" descr=""/>
          <p:cNvPicPr/>
          <p:nvPr/>
        </p:nvPicPr>
        <p:blipFill>
          <a:blip r:embed="rId8"/>
          <a:stretch/>
        </p:blipFill>
        <p:spPr>
          <a:xfrm>
            <a:off x="152280" y="5334120"/>
            <a:ext cx="330480" cy="4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02" name="Picture 4" descr=""/>
          <p:cNvPicPr/>
          <p:nvPr/>
        </p:nvPicPr>
        <p:blipFill>
          <a:blip r:embed="rId9"/>
          <a:stretch/>
        </p:blipFill>
        <p:spPr>
          <a:xfrm>
            <a:off x="609480" y="5334120"/>
            <a:ext cx="517680" cy="422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03" name="Picture 5" descr=""/>
          <p:cNvPicPr/>
          <p:nvPr/>
        </p:nvPicPr>
        <p:blipFill>
          <a:blip r:embed="rId10"/>
          <a:stretch/>
        </p:blipFill>
        <p:spPr>
          <a:xfrm>
            <a:off x="1219320" y="5334120"/>
            <a:ext cx="379440" cy="474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  <p:pic>
        <p:nvPicPr>
          <p:cNvPr id="104" name="Picture 7" descr=""/>
          <p:cNvPicPr/>
          <p:nvPr/>
        </p:nvPicPr>
        <p:blipFill>
          <a:blip r:embed="rId11"/>
          <a:stretch/>
        </p:blipFill>
        <p:spPr>
          <a:xfrm>
            <a:off x="152280" y="5943600"/>
            <a:ext cx="409680" cy="407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192600" y="64785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2"/>
          <a:stretch/>
        </p:blipFill>
        <p:spPr>
          <a:xfrm>
            <a:off x="685800" y="5943600"/>
            <a:ext cx="50796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13"/>
          <a:stretch/>
        </p:blipFill>
        <p:spPr>
          <a:xfrm>
            <a:off x="1295280" y="5943600"/>
            <a:ext cx="45720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1222560" y="6248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han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55:52Z</dcterms:created>
  <dc:creator>FriscoISD</dc:creator>
  <dc:description/>
  <dc:language>en-US</dc:language>
  <cp:lastModifiedBy>User</cp:lastModifiedBy>
  <dcterms:modified xsi:type="dcterms:W3CDTF">2012-12-06T14:04:35Z</dcterms:modified>
  <cp:revision>119</cp:revision>
  <dc:subject/>
  <dc:title>Profile</dc:title>
</cp:coreProperties>
</file>